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09C5-EB3C-40C6-A1C2-633046244D5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BFEA-7156-4EB6-87D0-9218D914CED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31648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A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D096-A843-4F3C-BF77-8F3588B2CA9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A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60DD-99DA-45ED-AD7C-513341F5175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A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A53F-EB62-43A5-BDBD-F910C84C835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A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BAAE-6431-4D46-B4FA-1526A64629C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A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435A-9A29-4142-B750-EBBBA09107D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494E-A706-439F-B11D-409A3B09DB0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A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ABA7-86E8-4D70-A9F0-BF14735EE55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A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0AE3-9D28-417E-AAE9-7F65E93BB2A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3690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A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4EB3-40E7-4993-BD13-9417818DB05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0E9B-60B6-4B66-AAFD-24CB2CE7CB6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A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0DFC-8DEE-4FE4-8184-4526C5F63DD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BA4C-AC6D-44BE-A7ED-FE3B3F068FB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076400" y="668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8DC5-3B0A-4B2B-88D5-5AF92BB2CA7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7083-7EFF-4A95-BEE9-DE9FFB70036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1605-6FB6-4D45-9F2D-11B7D1B49A8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2F04-259A-442C-8345-3183060AA11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EE61-B28D-48F7-B323-55742B403B1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A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C813-9A45-4E0E-9554-5BEBC844608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A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46E9-8948-4CC0-BE62-A4B669E5310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AU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2C1D-B546-4E25-81B4-83920970658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AU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8F2F-415C-4A56-96E5-A0BAE62FAB5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77D0-C709-4873-B01B-3BF5BF33E3F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A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8C48-A53F-41CF-BC7A-9BE0A8DC03B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AC75-3153-421E-B412-F9B79CCA8DA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A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69CF-2F68-4EAF-B98B-361F5DD976F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46BB-0041-4C50-A91D-0DB1F9003A7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1133640" y="43099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811A-FFC5-490B-BA0A-2BA331A83A1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3599-C11C-48F9-947D-7E5780AB518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E9CB-A57A-4508-842D-DDA7B289134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A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A5C7-AA64-4981-9B3A-3F3630A7F2D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E6E3-2499-44E6-83AE-2590A85AF03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A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04B6-9652-4B2C-9962-5E6202C096E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A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B63A-C8F6-4A35-8BCA-BD582F17CE8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A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C9AE7-9E96-40D2-B4F8-D199247BFC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08161-7063-445B-ACC4-2C228016CA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82287-CA27-4D00-8327-ED1FFD2078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097BE-A39D-4B5C-91E0-EFC4510B44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38998-F182-490E-A4B0-FF15C77FC6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A7C06-AA21-4C98-9C9F-29A154A951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5EAB9-8342-49EA-8E0A-03E575873C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2795B-B49E-4D71-945F-20011BC5D8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AE74F-C8C7-4FB9-9700-5630CF583C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9ECBD-C4F5-47FC-9517-63378A860D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38206-693E-4F6C-AA56-DA9ADEFEB6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D77DA-D3B0-4531-9E97-9D2F2CCB9A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C0F66-B246-45F4-A645-84CEC81E94E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26" descr="intelEDU_wht_lrg [Converted]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5" name="Text Box 28"/>
          <p:cNvSpPr/>
          <p:nvPr/>
        </p:nvSpPr>
        <p:spPr>
          <a:xfrm>
            <a:off x="1079640" y="6108840"/>
            <a:ext cx="4711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Text Box 29"/>
          <p:cNvSpPr/>
          <p:nvPr/>
        </p:nvSpPr>
        <p:spPr>
          <a:xfrm>
            <a:off x="484200" y="654840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9 Intel Corporation. All rights reserved. Intel and the Intel logo are trademarks or registered trademarks of Intel Corporation 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or its subsidiaries in the United States and other countries. 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F06B-75FE-451A-B54A-135A1A7311FE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4503600"/>
            <a:ext cx="876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5170320"/>
            <a:ext cx="87660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Leadership Foru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3" name="Picture 6" descr="CoreGraphic_LowRes_blue"/>
          <p:cNvPicPr/>
          <p:nvPr/>
        </p:nvPicPr>
        <p:blipFill>
          <a:blip r:embed="rId1"/>
          <a:stretch/>
        </p:blipFill>
        <p:spPr>
          <a:xfrm>
            <a:off x="557280" y="1754280"/>
            <a:ext cx="8237520" cy="2536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intelEDU_wht_lrg [Converted]"/>
          <p:cNvPicPr/>
          <p:nvPr/>
        </p:nvPicPr>
        <p:blipFill>
          <a:blip r:embed="rId2"/>
          <a:stretch/>
        </p:blipFill>
        <p:spPr>
          <a:xfrm>
            <a:off x="6707160" y="476280"/>
            <a:ext cx="177948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369800" y="-360"/>
            <a:ext cx="6172200" cy="6488280"/>
            <a:chOff x="1369800" y="-360"/>
            <a:chExt cx="6172200" cy="6488280"/>
          </a:xfrm>
        </p:grpSpPr>
        <p:sp>
          <p:nvSpPr>
            <p:cNvPr id="85" name=""/>
            <p:cNvSpPr/>
            <p:nvPr/>
          </p:nvSpPr>
          <p:spPr>
            <a:xfrm rot="10800000">
              <a:off x="1369800" y="-360"/>
              <a:ext cx="6172200" cy="6488280"/>
            </a:xfrm>
            <a:custGeom>
              <a:avLst/>
              <a:gdLst>
                <a:gd name="textAreaLeft" fmla="*/ 301320 w 6172200"/>
                <a:gd name="textAreaRight" fmla="*/ 5870880 w 6172200"/>
                <a:gd name="textAreaTop" fmla="*/ 301320 h 6488280"/>
                <a:gd name="textAreaBottom" fmla="*/ 6186960 h 6488280"/>
              </a:gdLst>
              <a:ahLst/>
              <a:rect l="textAreaLeft" t="textAreaTop" r="textAreaRight" b="textAreaBottom"/>
              <a:pathLst>
                <a:path w="21600" h="22706">
                  <a:moveTo>
                    <a:pt x="3600" y="0"/>
                  </a:moveTo>
                  <a:arcTo wR="3600" hR="3600" stAng="16200000" swAng="-5400000"/>
                  <a:lnTo>
                    <a:pt x="0" y="19106"/>
                  </a:lnTo>
                  <a:arcTo wR="3600" hR="3600" stAng="10800000" swAng="-5400000"/>
                  <a:lnTo>
                    <a:pt x="18000" y="227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ec5e3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13840" y="194760"/>
              <a:ext cx="320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School’s Strategic Plan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41760" y="5008320"/>
              <a:ext cx="4000320" cy="1365840"/>
            </a:xfrm>
            <a:prstGeom prst="rect">
              <a:avLst/>
            </a:prstGeom>
            <a:solidFill>
              <a:srgbClr val="d7e2c8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13160" y="5459760"/>
              <a:ext cx="1028520" cy="819720"/>
            </a:xfrm>
            <a:prstGeom prst="roundRect">
              <a:avLst>
                <a:gd name="adj" fmla="val 16667"/>
              </a:avLst>
            </a:prstGeom>
            <a:solidFill>
              <a:srgbClr val="8aae46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656160" y="5459760"/>
              <a:ext cx="1028520" cy="819720"/>
            </a:xfrm>
            <a:prstGeom prst="roundRect">
              <a:avLst>
                <a:gd name="adj" fmla="val 16667"/>
              </a:avLst>
            </a:prstGeom>
            <a:solidFill>
              <a:srgbClr val="49a569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799160" y="5459760"/>
              <a:ext cx="1028520" cy="819720"/>
            </a:xfrm>
            <a:prstGeom prst="roundRect">
              <a:avLst>
                <a:gd name="adj" fmla="val 16667"/>
              </a:avLst>
            </a:prstGeom>
            <a:solidFill>
              <a:srgbClr val="4d7a9c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42160" y="5459760"/>
              <a:ext cx="1028520" cy="819720"/>
            </a:xfrm>
            <a:prstGeom prst="roundRect">
              <a:avLst>
                <a:gd name="adj" fmla="val 16667"/>
              </a:avLst>
            </a:prstGeom>
            <a:solidFill>
              <a:srgbClr val="6d5192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27280" y="5573880"/>
              <a:ext cx="79992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ICT Network Audit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656160" y="5459760"/>
              <a:ext cx="1028520" cy="68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ICT Roadmap development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99160" y="5573880"/>
              <a:ext cx="102852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Build ICT foundation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942160" y="5573880"/>
              <a:ext cx="102852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Extend ICT beyond foundation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741760" y="4974480"/>
              <a:ext cx="4000320" cy="54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000" spc="-1" strike="noStrike">
                  <a:solidFill>
                    <a:srgbClr val="4d7a9c"/>
                  </a:solidFill>
                  <a:latin typeface="Arial"/>
                  <a:ea typeface="ＭＳ Ｐゴシック"/>
                </a:rPr>
                <a:t>IT Infrastructure and technical support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000" spc="-1" strike="noStrike">
                  <a:solidFill>
                    <a:srgbClr val="4d7a9c"/>
                  </a:solidFill>
                  <a:latin typeface="Arial"/>
                  <a:ea typeface="ＭＳ Ｐゴシック"/>
                </a:rPr>
                <a:t>Supporting the ‘School ICT Progression Strategy’ (SIPS)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941480" y="564480"/>
              <a:ext cx="2857320" cy="4323600"/>
            </a:xfrm>
            <a:custGeom>
              <a:avLst/>
              <a:gdLst>
                <a:gd name="textAreaLeft" fmla="*/ 139320 w 2857320"/>
                <a:gd name="textAreaRight" fmla="*/ 2718000 w 2857320"/>
                <a:gd name="textAreaTop" fmla="*/ 139320 h 4323600"/>
                <a:gd name="textAreaBottom" fmla="*/ 4184280 h 4323600"/>
              </a:gdLst>
              <a:ahLst/>
              <a:rect l="textAreaLeft" t="textAreaTop" r="textAreaRight" b="textAreaBottom"/>
              <a:pathLst>
                <a:path w="21600" h="32683">
                  <a:moveTo>
                    <a:pt x="3600" y="0"/>
                  </a:moveTo>
                  <a:arcTo wR="3600" hR="3600" stAng="16200000" swAng="-5400000"/>
                  <a:lnTo>
                    <a:pt x="0" y="29083"/>
                  </a:lnTo>
                  <a:arcTo wR="3600" hR="3600" stAng="10800000" swAng="-5400000"/>
                  <a:lnTo>
                    <a:pt x="18000" y="326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d7a9c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63800" y="2338560"/>
              <a:ext cx="13716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Annual Implementation Plan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69880" y="806400"/>
              <a:ext cx="2516400" cy="4007160"/>
            </a:xfrm>
            <a:custGeom>
              <a:avLst/>
              <a:gdLst>
                <a:gd name="textAreaLeft" fmla="*/ 122760 w 2516400"/>
                <a:gd name="textAreaRight" fmla="*/ 2393640 w 2516400"/>
                <a:gd name="textAreaTop" fmla="*/ 122760 h 4007160"/>
                <a:gd name="textAreaBottom" fmla="*/ 3884400 h 4007160"/>
              </a:gdLst>
              <a:ahLst/>
              <a:rect l="textAreaLeft" t="textAreaTop" r="textAreaRight" b="textAreaBottom"/>
              <a:pathLst>
                <a:path w="21600" h="34394">
                  <a:moveTo>
                    <a:pt x="3600" y="0"/>
                  </a:moveTo>
                  <a:arcTo wR="3600" hR="3600" stAng="16200000" swAng="-5400000"/>
                  <a:lnTo>
                    <a:pt x="0" y="30794"/>
                  </a:lnTo>
                  <a:arcTo wR="3600" hR="3600" stAng="10800000" swAng="-5400000"/>
                  <a:lnTo>
                    <a:pt x="18000" y="343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626280" y="1451520"/>
              <a:ext cx="1714320" cy="647640"/>
            </a:xfrm>
            <a:prstGeom prst="rect">
              <a:avLst/>
            </a:prstGeom>
            <a:solidFill>
              <a:srgbClr val="669999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26280" y="2096640"/>
              <a:ext cx="1714320" cy="647640"/>
            </a:xfrm>
            <a:prstGeom prst="rect">
              <a:avLst/>
            </a:prstGeom>
            <a:solidFill>
              <a:srgbClr val="669999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26280" y="2741760"/>
              <a:ext cx="1714320" cy="647640"/>
            </a:xfrm>
            <a:prstGeom prst="rect">
              <a:avLst/>
            </a:prstGeom>
            <a:solidFill>
              <a:srgbClr val="669999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26280" y="4011840"/>
              <a:ext cx="1714320" cy="647640"/>
            </a:xfrm>
            <a:prstGeom prst="rect">
              <a:avLst/>
            </a:prstGeom>
            <a:solidFill>
              <a:srgbClr val="669999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26280" y="3384360"/>
              <a:ext cx="1714320" cy="647640"/>
            </a:xfrm>
            <a:prstGeom prst="rect">
              <a:avLst/>
            </a:prstGeom>
            <a:solidFill>
              <a:srgbClr val="669999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744720" y="1532160"/>
              <a:ext cx="148572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eLearning Leadership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44720" y="2177280"/>
              <a:ext cx="148572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Learning, Teaching, Assessment, Reporting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744720" y="2822400"/>
              <a:ext cx="148572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ICT Professional Learning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744720" y="3467520"/>
              <a:ext cx="148572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Learning Places and Spaces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70280" y="4119840"/>
              <a:ext cx="148572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Learning Communities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69880" y="1370880"/>
              <a:ext cx="459000" cy="30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900" spc="-1" strike="noStrike">
                  <a:solidFill>
                    <a:srgbClr val="008080"/>
                  </a:solidFill>
                  <a:latin typeface="Arial"/>
                  <a:ea typeface="ＭＳ Ｐゴシック"/>
                </a:rPr>
                <a:t>E</a:t>
              </a:r>
              <a:endParaRPr b="0" lang="en-US" sz="9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900" spc="-1" strike="noStrike">
                  <a:solidFill>
                    <a:srgbClr val="008080"/>
                  </a:solidFill>
                  <a:latin typeface="Arial"/>
                  <a:ea typeface="ＭＳ Ｐゴシック"/>
                </a:rPr>
                <a:t>L</a:t>
              </a:r>
              <a:endParaRPr b="0" lang="en-US" sz="9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900" spc="-1" strike="noStrike">
                  <a:solidFill>
                    <a:srgbClr val="008080"/>
                  </a:solidFill>
                  <a:latin typeface="Arial"/>
                  <a:ea typeface="ＭＳ Ｐゴシック"/>
                </a:rPr>
                <a:t>E</a:t>
              </a:r>
              <a:endParaRPr b="0" lang="en-US" sz="9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900" spc="-1" strike="noStrike">
                  <a:solidFill>
                    <a:srgbClr val="008080"/>
                  </a:solidFill>
                  <a:latin typeface="Arial"/>
                  <a:ea typeface="ＭＳ Ｐゴシック"/>
                </a:rPr>
                <a:t>A</a:t>
              </a:r>
              <a:endParaRPr b="0" lang="en-US" sz="9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900" spc="-1" strike="noStrike">
                  <a:solidFill>
                    <a:srgbClr val="008080"/>
                  </a:solidFill>
                  <a:latin typeface="Arial"/>
                  <a:ea typeface="ＭＳ Ｐゴシック"/>
                </a:rPr>
                <a:t>R</a:t>
              </a:r>
              <a:endParaRPr b="0" lang="en-US" sz="9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900" spc="-1" strike="noStrike">
                  <a:solidFill>
                    <a:srgbClr val="008080"/>
                  </a:solidFill>
                  <a:latin typeface="Arial"/>
                  <a:ea typeface="ＭＳ Ｐゴシック"/>
                </a:rPr>
                <a:t>N</a:t>
              </a:r>
              <a:endParaRPr b="0" lang="en-US" sz="9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900" spc="-1" strike="noStrike">
                  <a:solidFill>
                    <a:srgbClr val="008080"/>
                  </a:solidFill>
                  <a:latin typeface="Arial"/>
                  <a:ea typeface="ＭＳ Ｐゴシック"/>
                </a:rPr>
                <a:t>I</a:t>
              </a:r>
              <a:endParaRPr b="0" lang="en-US" sz="9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900" spc="-1" strike="noStrike">
                  <a:solidFill>
                    <a:srgbClr val="008080"/>
                  </a:solidFill>
                  <a:latin typeface="Arial"/>
                  <a:ea typeface="ＭＳ Ｐゴシック"/>
                </a:rPr>
                <a:t>N</a:t>
              </a:r>
              <a:endParaRPr b="0" lang="en-US" sz="9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900" spc="-1" strike="noStrike">
                  <a:solidFill>
                    <a:srgbClr val="008080"/>
                  </a:solidFill>
                  <a:latin typeface="Arial"/>
                  <a:ea typeface="ＭＳ Ｐゴシック"/>
                </a:rPr>
                <a:t>G</a:t>
              </a:r>
              <a:endParaRPr b="0" lang="en-US" sz="9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900" spc="-1" strike="noStrike">
                  <a:solidFill>
                    <a:srgbClr val="008080"/>
                  </a:solidFill>
                  <a:latin typeface="Arial"/>
                  <a:ea typeface="ＭＳ Ｐゴシック"/>
                </a:rPr>
                <a:t>P</a:t>
              </a:r>
              <a:br>
                <a:rPr sz="900"/>
              </a:br>
              <a:r>
                <a:rPr b="0" lang="en-AU" sz="900" spc="-1" strike="noStrike">
                  <a:solidFill>
                    <a:srgbClr val="008080"/>
                  </a:solidFill>
                  <a:latin typeface="Arial"/>
                  <a:ea typeface="ＭＳ Ｐゴシック"/>
                </a:rPr>
                <a:t>L</a:t>
              </a:r>
              <a:endParaRPr b="0" lang="en-US" sz="9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900" spc="-1" strike="noStrike">
                  <a:solidFill>
                    <a:srgbClr val="008080"/>
                  </a:solidFill>
                  <a:latin typeface="Arial"/>
                  <a:ea typeface="ＭＳ Ｐゴシック"/>
                </a:rPr>
                <a:t>A</a:t>
              </a:r>
              <a:endParaRPr b="0" lang="en-US" sz="9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900" spc="-1" strike="noStrike">
                  <a:solidFill>
                    <a:srgbClr val="008080"/>
                  </a:solidFill>
                  <a:latin typeface="Arial"/>
                  <a:ea typeface="ＭＳ Ｐゴシック"/>
                </a:rPr>
                <a:t>N</a:t>
              </a:r>
              <a:endParaRPr b="0" lang="en-US" sz="9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900" spc="-1" strike="noStrike">
                  <a:solidFill>
                    <a:srgbClr val="008080"/>
                  </a:solidFill>
                  <a:latin typeface="Arial"/>
                  <a:ea typeface="ＭＳ Ｐゴシック"/>
                </a:rPr>
                <a:t>N</a:t>
              </a:r>
              <a:endParaRPr b="0" lang="en-US" sz="9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900" spc="-1" strike="noStrike">
                  <a:solidFill>
                    <a:srgbClr val="008080"/>
                  </a:solidFill>
                  <a:latin typeface="Arial"/>
                  <a:ea typeface="ＭＳ Ｐゴシック"/>
                </a:rPr>
                <a:t>I</a:t>
              </a:r>
              <a:endParaRPr b="0" lang="en-US" sz="9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900" spc="-1" strike="noStrike">
                  <a:solidFill>
                    <a:srgbClr val="008080"/>
                  </a:solidFill>
                  <a:latin typeface="Arial"/>
                  <a:ea typeface="ＭＳ Ｐゴシック"/>
                </a:rPr>
                <a:t>N</a:t>
              </a:r>
              <a:endParaRPr b="0" lang="en-US" sz="9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900" spc="-1" strike="noStrike">
                  <a:solidFill>
                    <a:srgbClr val="008080"/>
                  </a:solidFill>
                  <a:latin typeface="Arial"/>
                  <a:ea typeface="ＭＳ Ｐゴシック"/>
                </a:rPr>
                <a:t>G</a:t>
              </a:r>
              <a:endParaRPr b="0" lang="en-US" sz="9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900" spc="-1" strike="noStrike">
                  <a:solidFill>
                    <a:srgbClr val="008080"/>
                  </a:solidFill>
                  <a:latin typeface="Arial"/>
                  <a:ea typeface="ＭＳ Ｐゴシック"/>
                </a:rPr>
                <a:t>E</a:t>
              </a:r>
              <a:endParaRPr b="0" lang="en-US" sz="9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900" spc="-1" strike="noStrike">
                  <a:solidFill>
                    <a:srgbClr val="008080"/>
                  </a:solidFill>
                  <a:latin typeface="Arial"/>
                  <a:ea typeface="ＭＳ Ｐゴシック"/>
                </a:rPr>
                <a:t>L</a:t>
              </a:r>
              <a:endParaRPr b="0" lang="en-US" sz="9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900" spc="-1" strike="noStrike">
                  <a:solidFill>
                    <a:srgbClr val="008080"/>
                  </a:solidFill>
                  <a:latin typeface="Arial"/>
                  <a:ea typeface="ＭＳ Ｐゴシック"/>
                </a:rPr>
                <a:t>E</a:t>
              </a:r>
              <a:endParaRPr b="0" lang="en-US" sz="9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900" spc="-1" strike="noStrike">
                  <a:solidFill>
                    <a:srgbClr val="008080"/>
                  </a:solidFill>
                  <a:latin typeface="Arial"/>
                  <a:ea typeface="ＭＳ Ｐゴシック"/>
                </a:rPr>
                <a:t>M</a:t>
              </a:r>
              <a:endParaRPr b="0" lang="en-US" sz="9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900" spc="-1" strike="noStrike">
                  <a:solidFill>
                    <a:srgbClr val="008080"/>
                  </a:solidFill>
                  <a:latin typeface="Arial"/>
                  <a:ea typeface="ＭＳ Ｐゴシック"/>
                </a:rPr>
                <a:t>E</a:t>
              </a:r>
              <a:endParaRPr b="0" lang="en-US" sz="9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900" spc="-1" strike="noStrike">
                  <a:solidFill>
                    <a:srgbClr val="008080"/>
                  </a:solidFill>
                  <a:latin typeface="Arial"/>
                  <a:ea typeface="ＭＳ Ｐゴシック"/>
                </a:rPr>
                <a:t>N</a:t>
              </a:r>
              <a:endParaRPr b="0" lang="en-US" sz="9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900" spc="-1" strike="noStrike">
                  <a:solidFill>
                    <a:srgbClr val="008080"/>
                  </a:solidFill>
                  <a:latin typeface="Arial"/>
                  <a:ea typeface="ＭＳ Ｐゴシック"/>
                </a:rPr>
                <a:t>T</a:t>
              </a:r>
              <a:endParaRPr b="0" lang="en-US" sz="9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900" spc="-1" strike="noStrike">
                  <a:solidFill>
                    <a:srgbClr val="008080"/>
                  </a:solidFill>
                  <a:latin typeface="Arial"/>
                  <a:ea typeface="ＭＳ Ｐゴシック"/>
                </a:rPr>
                <a:t>s</a:t>
              </a:r>
              <a:r>
                <a:rPr b="1" lang="en-AU" sz="1000" spc="-1" strike="noStrike">
                  <a:solidFill>
                    <a:srgbClr val="008080"/>
                  </a:solidFill>
                  <a:latin typeface="Arial"/>
                  <a:ea typeface="ＭＳ Ｐゴシック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882400" y="2499840"/>
              <a:ext cx="1599840" cy="799920"/>
            </a:xfrm>
            <a:prstGeom prst="leftArrowCallout">
              <a:avLst>
                <a:gd name="adj1" fmla="val 37624"/>
                <a:gd name="adj2" fmla="val 39287"/>
                <a:gd name="adj3" fmla="val 61111"/>
                <a:gd name="adj4" fmla="val 65483"/>
              </a:avLst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56960" y="2661120"/>
              <a:ext cx="10285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88760" y="1048320"/>
              <a:ext cx="356040" cy="36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8080"/>
                  </a:solidFill>
                  <a:latin typeface="Arial"/>
                  <a:ea typeface="ＭＳ Ｐゴシック"/>
                </a:rPr>
                <a:t>Re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8080"/>
                  </a:solidFill>
                  <a:latin typeface="Arial"/>
                  <a:ea typeface="ＭＳ Ｐゴシック"/>
                </a:rPr>
                <a:t>V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8080"/>
                  </a:solidFill>
                  <a:latin typeface="Arial"/>
                  <a:ea typeface="ＭＳ Ｐゴシック"/>
                </a:rPr>
                <a:t>I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8080"/>
                  </a:solidFill>
                  <a:latin typeface="Arial"/>
                  <a:ea typeface="ＭＳ Ｐゴシック"/>
                </a:rPr>
                <a:t>ew and Manageme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8080"/>
                  </a:solidFill>
                  <a:latin typeface="Arial"/>
                  <a:ea typeface="ＭＳ Ｐゴシック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16560" y="996120"/>
              <a:ext cx="1714320" cy="419040"/>
            </a:xfrm>
            <a:prstGeom prst="rect">
              <a:avLst/>
            </a:prstGeom>
            <a:noFill/>
            <a:ln w="381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626280" y="1048320"/>
              <a:ext cx="17143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000" spc="-1" strike="noStrike">
                  <a:solidFill>
                    <a:srgbClr val="669999"/>
                  </a:solidFill>
                  <a:latin typeface="Arial"/>
                  <a:ea typeface="ＭＳ Ｐゴシック"/>
                </a:rPr>
                <a:t>eLearning Vision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07560" y="4032000"/>
              <a:ext cx="374400" cy="457200"/>
            </a:xfrm>
            <a:custGeom>
              <a:avLst/>
              <a:gdLst>
                <a:gd name="textAreaLeft" fmla="*/ 65520 w 374400"/>
                <a:gd name="textAreaRight" fmla="*/ 271440 w 37440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759236"/>
                  <a:lnTo>
                    <a:pt x="21202" y="6919"/>
                  </a:lnTo>
                  <a:lnTo>
                    <a:pt x="17280" y="0"/>
                  </a:lnTo>
                  <a:lnTo>
                    <a:pt x="12562" y="6919"/>
                  </a:lnTo>
                  <a:lnTo>
                    <a:pt x="14722" y="6919"/>
                  </a:lnTo>
                  <a:arcTo wR="7560" hR="21600" stAng="2640764" swAng="2401801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6d51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578000">
              <a:off x="5360400" y="1209240"/>
              <a:ext cx="374400" cy="457200"/>
            </a:xfrm>
            <a:custGeom>
              <a:avLst/>
              <a:gdLst>
                <a:gd name="textAreaLeft" fmla="*/ 65520 w 374400"/>
                <a:gd name="textAreaRight" fmla="*/ 271440 w 37440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759236"/>
                  <a:lnTo>
                    <a:pt x="21202" y="6919"/>
                  </a:lnTo>
                  <a:lnTo>
                    <a:pt x="17280" y="0"/>
                  </a:lnTo>
                  <a:lnTo>
                    <a:pt x="12562" y="6919"/>
                  </a:lnTo>
                  <a:lnTo>
                    <a:pt x="14722" y="6919"/>
                  </a:lnTo>
                  <a:arcTo wR="7560" hR="21600" stAng="2640764" swAng="2401801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6d51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437160" y="2625840"/>
            <a:ext cx="92736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30440" cy="2162160"/>
          </a:xfrm>
          <a:prstGeom prst="rect">
            <a:avLst/>
          </a:prstGeom>
          <a:ln w="0">
            <a:noFill/>
          </a:ln>
        </p:spPr>
      </p:pic>
      <p:pic>
        <p:nvPicPr>
          <p:cNvPr id="121" name="Rectangle 2" descr=""/>
          <p:cNvPicPr/>
          <p:nvPr/>
        </p:nvPicPr>
        <p:blipFill>
          <a:blip r:embed="rId2"/>
          <a:stretch/>
        </p:blipFill>
        <p:spPr>
          <a:xfrm>
            <a:off x="0" y="3575160"/>
            <a:ext cx="3632040" cy="24717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544920" y="249120"/>
            <a:ext cx="5599080" cy="55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E492-BB09-4053-A036-2976BA3272FD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9760" y="196560"/>
            <a:ext cx="89042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dule 1 | Activity 2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earning Through Ranking</a:t>
            </a:r>
            <a:br>
              <a:rPr sz="2200"/>
            </a:b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sential Conditions to Effectively Leverage ICT for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view the Essentials Worksheet and indicate your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chool’s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vel of progress and note specifics as it relates to your rating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hare and discuss how you rated your schools progress in each of these area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ome Questions to consid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hat “essential conditions” do you view as the most critical to address for your school to best leverage ICT to support teaching and learning in your school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hat “essential conditions” do you think you are doing “best”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hat “essential conditions” do you think you need to address “first”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would use or modify these essential conditions to support your work as a leader to leverage ICT for learning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1844-C614-4EFA-8C71-56F6C5D9DFA5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9760" y="196560"/>
            <a:ext cx="89042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dule 1 | Activity 2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earning Through Ranking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ank Order the Essential Conditions based on your discussions on the previous slide.</a:t>
            </a:r>
            <a:br>
              <a:rPr sz="2200"/>
            </a:b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2309400"/>
            <a:ext cx="8237520" cy="34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cae1"/>
                </a:solidFill>
                <a:latin typeface="Verdana"/>
              </a:rPr>
              <a:t>Logging In to Visual Ranking To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o to: www.intel.com/education/au/visualranking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acher ID: </a:t>
            </a:r>
            <a:r>
              <a:rPr b="1" lang="en-US" sz="2000" spc="-1" strike="noStrike">
                <a:solidFill>
                  <a:srgbClr val="a6cae1"/>
                </a:solidFill>
                <a:latin typeface="Verdana"/>
              </a:rPr>
              <a:t>Senior Trainer inserts Teacher ID her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am ID: </a:t>
            </a:r>
            <a:r>
              <a:rPr b="1" lang="en-US" sz="2000" spc="-1" strike="noStrike">
                <a:solidFill>
                  <a:srgbClr val="a6cae1"/>
                </a:solidFill>
                <a:latin typeface="Verdana"/>
              </a:rPr>
              <a:t>Userxx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xx is your assigned number 1 through 20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assword: </a:t>
            </a:r>
            <a:r>
              <a:rPr b="1" lang="en-US" sz="2000" spc="-1" strike="noStrike">
                <a:solidFill>
                  <a:srgbClr val="a6cae1"/>
                </a:solidFill>
                <a:latin typeface="Verdana"/>
              </a:rPr>
              <a:t>Userxx</a:t>
            </a: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same as Team ID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lease record these for future reference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90FD-80B4-4816-A132-FEB6FC43869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19040" y="1522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odule 1 | Activity 3 </a:t>
            </a:r>
            <a:br>
              <a:rPr sz="28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Effectively Leveraging IC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53880" y="101556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How can you shift priorities and time to support integration of ICT into learning and teaching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What evidence will you accept that integration is occurring – keeping in mind that USE and INTEGRATION are separate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What helps a leader move to higher levels of comfort and knowledge relative to ICT integration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" name="Picture 5" descr="Leveraging.jpg"/>
          <p:cNvPicPr/>
          <p:nvPr/>
        </p:nvPicPr>
        <p:blipFill>
          <a:blip r:embed="rId1"/>
          <a:stretch/>
        </p:blipFill>
        <p:spPr>
          <a:xfrm>
            <a:off x="469800" y="2916360"/>
            <a:ext cx="6858000" cy="34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09C3-3078-47D7-9890-2E521A960DE9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1 Summary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Key Point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ffff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adership Behaviours exist that impact student achievement when ICT is integrated into teaching and learn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ffff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lanning should be based on local and state standar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ffff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dentifying core knowledge and skills for leaders is critic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ffff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aders play a pivotal role in supporting IC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ffff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ssential Conditions assist leaders in effectively leveraging IC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B8D4-98F2-45EC-B6AE-9FA490330671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2</a:t>
            </a:r>
            <a:br>
              <a:rPr sz="2600"/>
            </a:br>
            <a:r>
              <a:rPr b="1" lang="en-US" sz="2600" spc="-1" strike="noStrike">
                <a:solidFill>
                  <a:srgbClr val="a6cae1"/>
                </a:solidFill>
                <a:latin typeface="Verdana"/>
              </a:rPr>
              <a:t>Exploring Best Practices and 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Question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are teachers using ICT effectively to engage students, develop 21st century skills, and enhance standards-based teaching and learning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at do exemplary ICT-integrated unit plans and assessment tools look like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is ICT most effectively used as a tool to enhance teacher effectiveness and attain standards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at actions do leaders take in supporting, modeling, and promoting ICT integration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75B7-93E5-410F-B7FB-A123CAA66CEF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80960" y="272520"/>
            <a:ext cx="8212320" cy="10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2 | Activity 1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Exploring Best Practices and Resources</a:t>
            </a:r>
            <a:br>
              <a:rPr sz="2000"/>
            </a:b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66840" y="1485720"/>
            <a:ext cx="82375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nderstanding the Intel</a:t>
            </a:r>
            <a:r>
              <a:rPr b="1" lang="en-US" sz="20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 worldwide program launched in 200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re than 6 million teachers in over 40 countries have already been trained, including 17,000 in Austral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urriculum goes beyond learning how to use ICT tools to improve teacher effectiveness in support of student achievem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A70C-A312-4FF3-BD21-936A56494F05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9840" y="425160"/>
            <a:ext cx="82630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2 | Activity 2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Exploring Best Practices and Resources</a:t>
            </a:r>
            <a:br>
              <a:rPr sz="2000"/>
            </a:b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58920" y="1432080"/>
            <a:ext cx="82375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Key Evaluation Findings for Intel</a:t>
            </a:r>
            <a:r>
              <a:rPr b="1" lang="en-US" sz="1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Teach Program**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75%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received leadership support to implement their learnings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80000"/>
              </a:lnSpc>
              <a:spcBef>
                <a:spcPts val="524"/>
              </a:spcBef>
              <a:spcAft>
                <a:spcPts val="700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notably stronger in primary (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78%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) than in secondary schools (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65%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ata showed a strong correlation between level of leadership support and the implementation of teachers’ technology based unit plan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eacher comments referred to the need for leaders to: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Encourage and enable participation by all or most teachers in the schoo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llow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ime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for the professional learning, and for ongoing collaboration, support and joint curriculum planning between teacher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Verdana"/>
              </a:rPr>
              <a:t>** Evaluation conducted by Deakin University</a:t>
            </a: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D5E0-365B-4976-8D58-470E0F056921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2 | Activity 2</a:t>
            </a:r>
            <a:br>
              <a:rPr sz="2600"/>
            </a:br>
            <a:r>
              <a:rPr b="1" lang="en-US" sz="2600" spc="-1" strike="noStrike">
                <a:solidFill>
                  <a:srgbClr val="a6cae1"/>
                </a:solidFill>
                <a:latin typeface="Verdana"/>
              </a:rPr>
              <a:t>Exploring 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eaders will explore the Intel Education website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ustralia – www.intel.com/education/au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tep 1: Website Tour – Teaching Tools and Resourc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tep 2: Designing Effective Project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tep 3: Thinking Tool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tep 4: Assessing Projects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buClr>
                <a:srgbClr val="ffff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aching Resourc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tep 5: Exploring An Innovation Odyssey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tep 6: Evidence of Impact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roven Results in </a:t>
            </a: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Australia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f5e64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Australian Teachers making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a difference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olutions for Leaders (Global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vidence of Global Impac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36F8-8459-4C69-94B6-172DEF5BED01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orum Goal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3720" y="96156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hrough this forum you will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xamine the critical role educational leaders play in promoting, modeling, and supporting effective integration of ICT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dentify, access, and use available resources and ICT tools to support professional learning, educator practice, and student learnin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reate a prioritised list of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ssential Condition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at promote the integration of ICT as a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ool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to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improve student learnin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iscuss  and review relevant local ICT standards for leaders, teachers, and student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Review International Society for Technology in Educational International Technology/ICT Standards for Leaders, Teachers, and Students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ynthesise understanding and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egin to develop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a personal action plan to implement in your school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6469-5102-460C-8990-4977E039B00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2 Summary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Key Poin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ffff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tudent centered, inquiry based instruction engages students in meaningful projec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ffff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1st Century Skills play an integral part in student projec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ffff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aders support and promote ICT integration through daily modeling, problem solving, and team approaches to teaching and learn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C1D2-08C5-4418-9D0B-5C496C2FD825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1680" y="272880"/>
            <a:ext cx="830124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3</a:t>
            </a:r>
            <a:br>
              <a:rPr sz="2200"/>
            </a:br>
            <a:r>
              <a:rPr b="1" lang="en-US" sz="2600" spc="-1" strike="noStrike">
                <a:solidFill>
                  <a:srgbClr val="a6cae1"/>
                </a:solidFill>
                <a:latin typeface="Verdana"/>
              </a:rPr>
              <a:t>Introducing Web 2.0 and New Technologies</a:t>
            </a:r>
            <a:br>
              <a:rPr sz="2200"/>
            </a:b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8040" y="1498680"/>
            <a:ext cx="756432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Question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can Web 2.0 technologies be integrated into my school’s ICT plan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at tools can teachers and students use to connect to the global community and enhance teaching and learning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can Web 2.0 tools enhance daily communication with staff, parents, students, and community members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D0DC-73CF-492F-BF75-EDA608E2D191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3 | Activity 1</a:t>
            </a:r>
            <a:br>
              <a:rPr sz="2600"/>
            </a:br>
            <a:r>
              <a:rPr b="1" lang="en-US" sz="2600" spc="-1" strike="noStrike">
                <a:solidFill>
                  <a:srgbClr val="a6cae1"/>
                </a:solidFill>
                <a:latin typeface="Verdana"/>
              </a:rPr>
              <a:t>Understanding and Comparing Web 2.0 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3560" y="1727280"/>
            <a:ext cx="769176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eb 2.0 presents a shift from the “read-only” version of the web to a “read-write” version.  Web 2.0 means users can participate, manipulate, and contribute to Web content, often without using specialised software beyond their browser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ikipedia offers a detailed definition of Web 2.0 at http://en.wikipedia.org/wiki/Web_2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909720" y="0"/>
            <a:ext cx="726732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1376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133720" y="1523880"/>
            <a:ext cx="5105160" cy="2971800"/>
          </a:xfrm>
          <a:prstGeom prst="wedgeRoundRectCallout">
            <a:avLst>
              <a:gd name="adj1" fmla="val -45273"/>
              <a:gd name="adj2" fmla="val 71847"/>
              <a:gd name="adj3" fmla="val 16667"/>
            </a:avLst>
          </a:prstGeom>
          <a:solidFill>
            <a:srgbClr val="567e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99"/>
                </a:solidFill>
                <a:latin typeface="Trebuchet MS"/>
              </a:rPr>
              <a:t>Web 2.0: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rebuchet MS"/>
              </a:rPr>
              <a:t>Imagine the Possibilities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5943600"/>
            <a:ext cx="2971800" cy="707760"/>
          </a:xfrm>
          <a:prstGeom prst="rect">
            <a:avLst/>
          </a:prstGeom>
          <a:solidFill>
            <a:srgbClr val="0c2e86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Presented by Gayla S. Keese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May, 2007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21000">
    <p:plus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9C7A-7BE4-470E-BA5B-2D1A40FF0CD6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3 | Activity 1 </a:t>
            </a:r>
            <a:br>
              <a:rPr sz="2600"/>
            </a:br>
            <a:r>
              <a:rPr b="1" lang="en-US" sz="2600" spc="-1" strike="noStrike">
                <a:solidFill>
                  <a:srgbClr val="a6cae1"/>
                </a:solidFill>
                <a:latin typeface="Verdana"/>
              </a:rPr>
              <a:t>Step 1: Exploring Web 2.0 Tool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5760" y="1650600"/>
            <a:ext cx="82375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this next activity you will explore blogs, wikis, and collaborative web sites.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logs:  Allow individuals to share information and opinions with readers and to solicit feedback and discussi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ikis:  Collaborative Web sites that can be set up to be edited by anyone or only designated user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llaborative websites:  Allow individuals to create or upload documents to the Web where they can be edited by anyone you invit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3 | Activity 1 </a:t>
            </a:r>
            <a:br>
              <a:rPr sz="2600"/>
            </a:br>
            <a:r>
              <a:rPr b="1" lang="en-US" sz="2600" spc="-1" strike="noStrike">
                <a:solidFill>
                  <a:srgbClr val="a6cae1"/>
                </a:solidFill>
                <a:latin typeface="Verdana"/>
              </a:rPr>
              <a:t>Step 2: Comparing Web 2.0 Tool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at Web 2.0 applications do you currently use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at Web 2.0 applications are currently used by teachers in your schools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at applications are currently supported?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at are not allowed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ake the next few minutes and explore some of the applications listed on the handout provided.  (Web 2.0_Site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2B15-9E89-4851-BD93-2646366DAC10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3 | Activity 2 </a:t>
            </a:r>
            <a:br>
              <a:rPr sz="2600"/>
            </a:br>
            <a:r>
              <a:rPr b="1" lang="en-US" sz="2600" spc="-1" strike="noStrike">
                <a:solidFill>
                  <a:srgbClr val="a6cae1"/>
                </a:solidFill>
                <a:latin typeface="Verdana"/>
              </a:rPr>
              <a:t> Web 2.0 Tools in School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at Web 2.0 tools are being used by your teachers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at Web 2.0 tools do you use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ow could these Web 2.0 tools support teaching and learning in your school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log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ik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llaborative sit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at are the issues that leaders need  to consider when  tools like this are used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065E-578B-41D7-BF4D-52E791218BE1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B663-98BD-4AEB-98B7-0C32839F4770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3 Summary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5760" y="1244160"/>
            <a:ext cx="8447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Key Point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logs, wikis, and online collaborative documents allow students and teachers to collaborate on projects by sharing and responding to each other’s work onli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eb 2.0 tools allow students, educators, and community members to participate and contribute online without the need of specialised software or coding skil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ministrators use simple content publication tools, like blogs, to disseminate information online to teachers, students, and other community membe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eb 2.0 tools are often easy to use, and they extend the reach of communic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2860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2860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2860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379F-04F9-493A-835E-CF6C509CA810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4 </a:t>
            </a:r>
            <a:br>
              <a:rPr sz="2600"/>
            </a:br>
            <a:r>
              <a:rPr b="1" lang="en-US" sz="2600" spc="-1" strike="noStrike">
                <a:solidFill>
                  <a:srgbClr val="a6cae1"/>
                </a:solidFill>
                <a:latin typeface="Verdana"/>
              </a:rPr>
              <a:t>Developing Your Action Pla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Question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at can I personally do to advance effective ICT integration at my school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at leadership behaviours can I exhibit in the short-, medium-, and long-term time frames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DCA6-1982-40AC-834A-769C92789AC6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Viewing the Action Plan Template</a:t>
            </a:r>
            <a:br>
              <a:rPr sz="26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ction Plan -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What can I PERSONALLY do…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28600" y="1015920"/>
          <a:ext cx="8667720" cy="5138640"/>
        </p:xfrm>
        <a:graphic>
          <a:graphicData uri="http://schemas.openxmlformats.org/drawingml/2006/table">
            <a:tbl>
              <a:tblPr/>
              <a:tblGrid>
                <a:gridCol w="2940120"/>
                <a:gridCol w="2011320"/>
                <a:gridCol w="1811160"/>
                <a:gridCol w="1905120"/>
              </a:tblGrid>
              <a:tr h="309600"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Leadership Action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Short  Rang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Medium Rang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Long Rang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54612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114480" indent="-114480">
                        <a:tabLst>
                          <a:tab algn="l" pos="0"/>
                          <a:tab algn="l" pos="11448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Develop school capacity to use IC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192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171360" indent="-171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Develop and support increased teacher capability to effectively use IC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228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Develop and support increased student capability to access and use ICT resource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7936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Develop strategies to measure the effectiveness of ICT to improve student learning outcome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7936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Improve your capability to use and model the application of ICT to support your work as a leader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ECA0-4BCA-4A22-B92F-9DCC5B83766D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64880"/>
            <a:ext cx="823752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4 | Activity 1</a:t>
            </a:r>
            <a:br>
              <a:rPr sz="2600"/>
            </a:br>
            <a:r>
              <a:rPr b="1" lang="en-US" sz="2600" spc="-1" strike="noStrike">
                <a:solidFill>
                  <a:srgbClr val="a6cae1"/>
                </a:solidFill>
                <a:latin typeface="Verdana"/>
              </a:rPr>
              <a:t>Creating Your Action </a:t>
            </a:r>
            <a:r>
              <a:rPr b="1" lang="en-US" sz="1800" spc="-1" strike="noStrike">
                <a:solidFill>
                  <a:srgbClr val="a6cae1"/>
                </a:solidFill>
                <a:latin typeface="Verdana"/>
              </a:rPr>
              <a:t>Plan-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What can I PERSONALLY do…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52360" y="1017720"/>
          <a:ext cx="8350200" cy="5254560"/>
        </p:xfrm>
        <a:graphic>
          <a:graphicData uri="http://schemas.openxmlformats.org/drawingml/2006/table">
            <a:tbl>
              <a:tblPr/>
              <a:tblGrid>
                <a:gridCol w="2832120"/>
                <a:gridCol w="1938240"/>
                <a:gridCol w="1744920"/>
                <a:gridCol w="1834920"/>
              </a:tblGrid>
              <a:tr h="444240"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Leadership Action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Short  Rang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Medium Rang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Long Rang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5270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114480" indent="-114480">
                        <a:tabLst>
                          <a:tab algn="l" pos="0"/>
                          <a:tab algn="l" pos="11448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Develop school capacity to use IC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228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171360" indent="-171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Develop and support increased teacher capability to effectively use IC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192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Develop and support increased student capability to access and use ICT resource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7936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Develop strategies to measure the effectiveness of ICT to improve student learning outcome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7972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Improve your capacity to use and model the application of ICT to support your work as a leader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9834-82FE-4141-95CD-F31AA6AD413A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Viewing the Action Plan Template</a:t>
            </a:r>
            <a:br>
              <a:rPr sz="26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ction Plan -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What can I PERSONALLY do…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28600" y="1015920"/>
          <a:ext cx="8667720" cy="5772240"/>
        </p:xfrm>
        <a:graphic>
          <a:graphicData uri="http://schemas.openxmlformats.org/drawingml/2006/table">
            <a:tbl>
              <a:tblPr/>
              <a:tblGrid>
                <a:gridCol w="2940120"/>
                <a:gridCol w="2011320"/>
                <a:gridCol w="1811160"/>
                <a:gridCol w="1905120"/>
              </a:tblGrid>
              <a:tr h="309600"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Leadership Action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Short  Rang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Medium Rang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Long Rang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74448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114480" indent="-114480">
                        <a:tabLst>
                          <a:tab algn="l" pos="0"/>
                          <a:tab algn="l" pos="11448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Develop school capacity to use IC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view current ICT integration plan/strateg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228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171360" indent="-171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Develop and support increased teacher capability to effectively use IC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achers complete ePotential Survey - ICT use in the classroom. Analys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968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Develop and support increased student capability to access and use ICT resource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ventory ICT tools Review Resources section - ePotential survey results. What is being used/not used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7972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Develop strategies to measure the effectiveness of ICT to improve student learning outcome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et tech system to collect and analyse student dat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7936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Improve your capacity to use and model the application of ICT to support your work as a leader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el the use of ICT in your daily work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93A0-BB6B-4BAB-B29D-3E4FF8C370E7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4 | Activity 2</a:t>
            </a:r>
            <a:br>
              <a:rPr sz="2600"/>
            </a:br>
            <a:r>
              <a:rPr b="1" lang="en-US" sz="2600" spc="-1" strike="noStrike">
                <a:solidFill>
                  <a:srgbClr val="a6cae1"/>
                </a:solidFill>
                <a:latin typeface="Verdana"/>
              </a:rPr>
              <a:t>Sharing Your Action Pla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760" y="1179000"/>
            <a:ext cx="823752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challenges might you face when you implement your plan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do you plan to involve key stakeholders and bring them on board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are the immediate actions you will take toward implementing your plan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will you do personally to advance effective ICT integration in your scho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8C860-5DCB-4A74-A9DB-45703F88C865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4 | Activity 3</a:t>
            </a:r>
            <a:br>
              <a:rPr sz="2600"/>
            </a:br>
            <a:r>
              <a:rPr b="1" lang="en-US" sz="2600" spc="-1" strike="noStrike">
                <a:solidFill>
                  <a:srgbClr val="a6cae1"/>
                </a:solidFill>
                <a:latin typeface="Verdana"/>
              </a:rPr>
              <a:t>Concluding the Forum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85640" y="1252080"/>
            <a:ext cx="8353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ep 1: Revisiting the Forum Goals and Essential Ques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406440" indent="-17784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at are the next steps to support the integration of ICT in your school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406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406440" indent="-17784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can educational leaders support teacher effectiveness to improve student achievement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406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176040" indent="-176040"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ep 2: Focusing on Next Step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76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406440" indent="-17784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ntinue to build on your action pla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156A-6D7E-48DF-AD43-643158496C30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4 | Activity 3: Concluding the Forum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tep 3: </a:t>
            </a:r>
            <a:r>
              <a:rPr b="1" lang="en-US" sz="2600" spc="-1" strike="noStrike">
                <a:solidFill>
                  <a:srgbClr val="a6cae1"/>
                </a:solidFill>
                <a:latin typeface="Verdana"/>
              </a:rPr>
              <a:t>Reflecting on Lessons Learned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c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5c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5c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5c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5c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c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5c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5c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5c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5c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a6cae1"/>
                </a:solidFill>
                <a:latin typeface="Verdana"/>
              </a:rPr>
              <a:t>6.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Adjust action pla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c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5c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5c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5c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a6cae1"/>
                </a:solidFill>
                <a:latin typeface="Verdana"/>
              </a:rPr>
              <a:t>5.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Evaluate progre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c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5c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5c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a6cae1"/>
                </a:solidFill>
                <a:latin typeface="Verdana"/>
              </a:rPr>
              <a:t>4.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Take a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c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a6cae1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a6cae1"/>
                </a:solidFill>
                <a:latin typeface="Verdana"/>
              </a:rPr>
              <a:t>3.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Continue to explore resourc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c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a6cae1"/>
                </a:solidFill>
                <a:latin typeface="Verdana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Complete your action pla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eflect on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e647"/>
                </a:solidFill>
                <a:latin typeface="Verdana"/>
              </a:rPr>
              <a:t>Does your school have a current eLearning Plan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900E-CF9A-412C-9D66-247A8A289D0B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4 | Activity 4</a:t>
            </a:r>
            <a:br>
              <a:rPr sz="2600"/>
            </a:br>
            <a:r>
              <a:rPr b="1" lang="en-US" sz="2600" spc="-1" strike="noStrike">
                <a:solidFill>
                  <a:srgbClr val="a6cae1"/>
                </a:solidFill>
                <a:latin typeface="Verdana"/>
              </a:rPr>
              <a:t>Evaluating Your Forum Experienc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articipate in an online survey, conducted by Deakin Universi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e URL is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://secure.saltgroup.com.au/leadershipforumsurve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e password is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ead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CC71-43AA-4A46-8131-7E9B699D6EB0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4 Summary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760" y="1155240"/>
            <a:ext cx="8237520" cy="45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Key Point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n Action Plan includes short-, medium-, and long-range goals that are realistic and achievab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n Action Plan aligns to leadership standards and involves key stakeholders throughout the pla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n Action Plan includes available resources necessary to attain goals identified in the short-, medium-, and long-range time fram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ntinuous reflection, evaluation of progress, and adjustments to your action items are important to your plan’s overall succes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Leadership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32960" y="678960"/>
            <a:ext cx="8991720" cy="562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chool leaders are key actors in </a:t>
            </a:r>
            <a:r>
              <a:rPr b="1" lang="en-US" sz="1800" spc="-1" strike="noStrike">
                <a:solidFill>
                  <a:srgbClr val="f5e647"/>
                </a:solidFill>
                <a:latin typeface="Verdana"/>
              </a:rPr>
              <a:t>re-imagining school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for a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gital future. They have to recognise that their</a:t>
            </a: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5e647"/>
                </a:solidFill>
                <a:latin typeface="Verdana"/>
              </a:rPr>
              <a:t>student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are 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source to be unleashed; that they have the knowledge, skil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nd understanding to </a:t>
            </a:r>
            <a:r>
              <a:rPr b="1" lang="en-US" sz="1800" spc="-1" strike="noStrike">
                <a:solidFill>
                  <a:srgbClr val="f5e647"/>
                </a:solidFill>
                <a:latin typeface="Verdana"/>
              </a:rPr>
              <a:t>contribute to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and develop their ow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arning experience.  This approach to teaching can be scal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p to </a:t>
            </a:r>
            <a:r>
              <a:rPr b="1" lang="en-US" sz="1800" spc="-1" strike="noStrike">
                <a:solidFill>
                  <a:srgbClr val="f5e647"/>
                </a:solidFill>
                <a:latin typeface="Verdana"/>
              </a:rPr>
              <a:t>refram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the role that young people play in the who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chool system.  Leaders need to </a:t>
            </a:r>
            <a:r>
              <a:rPr b="1" lang="en-US" sz="1800" spc="-1" strike="noStrike">
                <a:solidFill>
                  <a:srgbClr val="f5e647"/>
                </a:solidFill>
                <a:latin typeface="Verdana"/>
              </a:rPr>
              <a:t>think innovatively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about th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5e647"/>
                </a:solidFill>
                <a:latin typeface="Verdana"/>
              </a:rPr>
              <a:t>resource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already within their school and how to mobilise the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ll to make maximum impact from invigorating ICT lessons, 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mbedding technologies across the curriculum.  This is abou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cusing on </a:t>
            </a:r>
            <a:r>
              <a:rPr b="1" lang="en-US" sz="1800" spc="-1" strike="noStrike">
                <a:solidFill>
                  <a:srgbClr val="f5e647"/>
                </a:solidFill>
                <a:latin typeface="Verdana"/>
              </a:rPr>
              <a:t>small lever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with the potential to create bi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hang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heir Space - Education for a digital generation, Green and Hannon, Demos 2007</a:t>
            </a:r>
            <a:r>
              <a:rPr b="0" lang="en-US" sz="600" spc="-1" strike="noStrike">
                <a:solidFill>
                  <a:srgbClr val="ffffff"/>
                </a:solidFill>
                <a:latin typeface="Verdana"/>
              </a:rPr>
              <a:t> p 66</a:t>
            </a: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2BC9-561F-4071-AB91-CE8BA0B0F18A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92040" y="78696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Thank you for participating in the Intel</a:t>
            </a:r>
            <a:r>
              <a:rPr b="0" lang="en-US" sz="22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Teach Leadership Forum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We appreciate your hard work, deep thinking, and commitment to ICT integration!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For further information please visit:  www.intel.com/education/au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Or contact Janice Youl youl.janice.e@edumail.vic.gov.au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0" descr="intelEDU_wht_lrg [Converted]"/>
          <p:cNvPicPr/>
          <p:nvPr/>
        </p:nvPicPr>
        <p:blipFill>
          <a:blip r:embed="rId1"/>
          <a:stretch/>
        </p:blipFill>
        <p:spPr>
          <a:xfrm>
            <a:off x="2217600" y="1908000"/>
            <a:ext cx="4953240" cy="2475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12"/>
          <p:cNvSpPr/>
          <p:nvPr/>
        </p:nvSpPr>
        <p:spPr>
          <a:xfrm>
            <a:off x="484200" y="654840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6 Intel Corporation. All rights reserved. Intel and the Intel logo are trademarks or registered trademarks of Intel Corporation 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or its subsidiaries in the United States and other countries. 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4D57-EDAF-4364-9F3F-030101A9A1EC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Getting Started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 </a:t>
            </a:r>
            <a:br>
              <a:rPr sz="2600"/>
            </a:br>
            <a:r>
              <a:rPr b="1" lang="en-US" sz="2200" spc="-1" strike="noStrike">
                <a:solidFill>
                  <a:srgbClr val="a6cae1"/>
                </a:solidFill>
                <a:latin typeface="Verdana"/>
              </a:rPr>
              <a:t>Clarifying Assumptions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eaders who support teacher effectiveness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…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elieve that </a:t>
            </a:r>
            <a:r>
              <a:rPr b="1" lang="en-US" sz="1800" spc="-1" strike="noStrike">
                <a:solidFill>
                  <a:srgbClr val="f5e647"/>
                </a:solidFill>
                <a:latin typeface="Verdana"/>
              </a:rPr>
              <a:t>ICT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is important and </a:t>
            </a:r>
            <a:r>
              <a:rPr b="1" lang="en-US" sz="1800" spc="-1" strike="noStrike">
                <a:solidFill>
                  <a:srgbClr val="f5e647"/>
                </a:solidFill>
                <a:latin typeface="Verdana"/>
              </a:rPr>
              <a:t>makes a differenc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in teaching and learning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re </a:t>
            </a:r>
            <a:r>
              <a:rPr b="1" lang="en-US" sz="1800" spc="-1" strike="noStrike">
                <a:solidFill>
                  <a:srgbClr val="f5e647"/>
                </a:solidFill>
                <a:latin typeface="Verdana"/>
              </a:rPr>
              <a:t>enthusiastic</a:t>
            </a:r>
            <a:r>
              <a:rPr b="0" lang="en-US" sz="1800" spc="-1" strike="noStrike">
                <a:solidFill>
                  <a:srgbClr val="567eb9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bout ICT and supporting their teache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elieve that this is the </a:t>
            </a:r>
            <a:r>
              <a:rPr b="1" lang="en-US" sz="1800" spc="-1" strike="noStrike">
                <a:solidFill>
                  <a:srgbClr val="f5e647"/>
                </a:solidFill>
                <a:latin typeface="Verdana"/>
              </a:rPr>
              <a:t>right thing to do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for studen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2C88-3503-4C04-A5EB-1E5B62FE794D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orum Agenda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19340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Getting Started |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troducing the Foru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1 |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amining Leadership Behaviours and Standar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2 |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ploring Best Practices and Resourc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3 |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troducing Web 2.0 and New ICT Resources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4 |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eveloping Your Action Pla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89F3-C484-4358-B907-10E24888D33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Getting Started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600"/>
            </a:br>
            <a:r>
              <a:rPr b="1" lang="en-US" sz="2400" spc="-1" strike="noStrike">
                <a:solidFill>
                  <a:srgbClr val="a6cae1"/>
                </a:solidFill>
                <a:latin typeface="Verdana"/>
              </a:rPr>
              <a:t>Summary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CT integration is the process of teachers and students routinely and seamlessly using ICT resources and ICT-based practices to enhance learn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e Leadership Forum will help you plan, promote, model, and support effective ICT integr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veloping an Action Plan enables you to proactively plan specific actions that you can take to promote and encourage the effective integration of ICT to improve teaching and learn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23D0-D8FE-424D-909E-E3DD7AF366BE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1</a:t>
            </a:r>
            <a:br>
              <a:rPr sz="2600"/>
            </a:br>
            <a:r>
              <a:rPr b="1" lang="en-US" sz="2400" spc="-1" strike="noStrike">
                <a:solidFill>
                  <a:srgbClr val="a6cae1"/>
                </a:solidFill>
                <a:latin typeface="Verdana"/>
              </a:rPr>
              <a:t>Examining Leadership </a:t>
            </a:r>
            <a:r>
              <a:rPr b="1" lang="en-US" sz="2400" spc="-1" strike="noStrike">
                <a:solidFill>
                  <a:srgbClr val="bccdf9"/>
                </a:solidFill>
                <a:latin typeface="Verdana"/>
              </a:rPr>
              <a:t>and IC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5800" y="19634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ule Question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at do you believe are the most important leadership actions that can support of ICT integration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at are the essential conditions for school leaders to consider around supporting ICT integration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EC4F-18DD-423A-B6EE-32EACC6B2F67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1 | Activity 1</a:t>
            </a:r>
            <a:br>
              <a:rPr sz="2600"/>
            </a:br>
            <a:r>
              <a:rPr b="1" lang="en-US" sz="2400" spc="-1" strike="noStrike">
                <a:solidFill>
                  <a:srgbClr val="a6cae1"/>
                </a:solidFill>
                <a:latin typeface="Verdana"/>
              </a:rPr>
              <a:t>Previewing International and Australian Standards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760" y="1523880"/>
            <a:ext cx="8237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ustralian State Departments of Educ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Links to the various state departments of education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CT standards and framework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STE – International Society for Technology in Educ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or Leader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or Teachers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or Student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ssential Conditions – help to effectively leverage ICT integration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364440" y="1278000"/>
            <a:ext cx="2779560" cy="1865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573200" y="2490840"/>
            <a:ext cx="29973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12DF-F0DD-4AA3-BE73-9BEE4515ECA3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39760" y="196560"/>
            <a:ext cx="89042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dule 1 | Activity 2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earning Through Ranking</a:t>
            </a:r>
            <a:br>
              <a:rPr sz="2200"/>
            </a:b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sential Conditions to Effectively Leverage ICT for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1" name="Picture 4" descr="EC.jpg"/>
          <p:cNvPicPr/>
          <p:nvPr/>
        </p:nvPicPr>
        <p:blipFill>
          <a:blip r:embed="rId1"/>
          <a:stretch/>
        </p:blipFill>
        <p:spPr>
          <a:xfrm>
            <a:off x="895320" y="1862280"/>
            <a:ext cx="725796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Dan Morris</dc:creator>
  <dc:description/>
  <dc:language>en-US</dc:language>
  <cp:lastModifiedBy>trudy brentnall</cp:lastModifiedBy>
  <dcterms:modified xsi:type="dcterms:W3CDTF">2009-03-26T01:25:35Z</dcterms:modified>
  <cp:revision>257</cp:revision>
  <dc:subject/>
  <dc:title>Forum Presentation</dc:title>
</cp:coreProperties>
</file>